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wmf" ContentType="image/x-wmf"/>
  <Override PartName="/ppt/media/image8.wmf" ContentType="image/x-wmf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wmf" ContentType="image/x-wmf"/>
  <Override PartName="/ppt/media/image14.jpeg" ContentType="image/jpeg"/>
  <Override PartName="/ppt/media/image18.wmf" ContentType="image/x-wmf"/>
  <Override PartName="/ppt/media/image17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23.jpeg" ContentType="image/jpeg"/>
  <Override PartName="/ppt/media/image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E7DB7-870E-4BCC-AC85-30B647FF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3FF55-6907-4FD4-97CE-1434D5AC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B03DB-F941-4F3D-8596-B2D46BF4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C73D0-BF81-4E03-9984-3E8F8B3A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E5178-EDDE-4D90-B30B-229C016D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94206-465F-43FD-8405-66F4E4D1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32EDB-5D45-4220-995B-F399D350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E710D-88DE-4FF5-80CA-AC3FEC7F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A9E24-F947-45B6-97DE-0E7D7A88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46F81-E02D-4BD0-832D-EC8AB467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53131-A138-425C-AC61-A451A211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21098-7D9F-4FC2-9BFA-E12A23A3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14EBE-2DE5-4050-9C40-584E02C8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C6F66-97FC-474A-9DDF-5E5C8C07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6EADC-7D0B-4840-935E-E7C9471A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5D0AA-9F6D-44EE-84C2-01B94FB2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7082D-15DA-47FE-BC37-5A94B8A2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15285-3E8F-41EE-BDF7-A7AAE7CB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8AD07-74E3-4899-964C-90C5A097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1F84B-E53E-454C-AA85-5C51EB09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578F1-7CAB-40C5-B508-6D47A0B0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41F0B-8236-4FC9-9F83-DDEE2BA9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D3C36-EC85-4454-A73B-8292BFE9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FA8FC-4B5F-49C2-B97A-03986C62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53827-54B1-44A9-821A-9B13FC5C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FB2FB-9AFF-4002-AFE3-C0007D5C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53D1D-A643-4D1E-9D33-FF2FB544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596EE-EB15-4B9E-8FF8-C87FD420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79456-3284-4C72-B65E-5FA9ADF9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CF40C-5943-4C64-A48C-6CC87C54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6A8B-1478-4E5B-93AF-19270502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2FEAA-21AA-49AF-A146-73DC25A0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7327A-1B31-4976-B4B2-C869D70D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517A2-02B0-48B3-B980-B5239096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231E-BF72-4E79-AA4C-3FDAED23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EF91-8AD9-4E3F-B698-ECF95F67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81AD-2144-4C37-9D56-F2553D3D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3362-DF02-435D-81BA-3CEC2CA5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B6F-5903-40D3-8344-48F593DB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CF41-924D-441E-888E-EFB09E16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3CD5-BE82-4FD4-A563-A92D6EBB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B882-D4DA-4CA1-958B-4E2B1FBF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B709-9858-44BE-9B16-B7A7F9C3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DF12-47D2-41C6-AE88-98D64C03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FC6-5B93-40A6-916F-65DADB0A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AF0A-64C5-443C-8AAD-B158A71A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91F8-0920-4A49-B421-1F1E7A0C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9713-AB2A-4927-BBD7-AA5A20FF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0BDF-E5A6-4CE6-8A7E-8289C7E7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5EE7-EFF2-4564-9132-CB949705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9C4F-F4C4-4220-B2E2-6144220C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7D6C-471C-4E33-94F5-846B9D65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DCA9-2C4D-4591-91DD-116B8C2D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E82F-D516-4792-B5C1-B2CA4450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4E45-30AD-4825-8DD5-382A18CC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C9A6-AF55-452E-A059-236D1B74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B6D9-7F8B-48E1-A295-479F30D7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97010-6B5E-4512-A9C7-087F6841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E8359-359A-4FDA-9CAB-482364BF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1AEF2-719D-4A0E-8CC9-52705C42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C9697-FF2A-41E7-8F18-474050EE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CBFE9-D8E3-4D69-A426-8B2FF63C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29B88-293C-456C-840A-9BEA939B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CDD15-71C4-49A4-9B96-987F9111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D3BED-24FA-4347-BD7C-557CA0A9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392E3-4111-4E24-8273-F575CDC3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71334-8638-4CAE-9CCE-1282DD14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9B4B2-5B9E-41FB-9DA3-D7225E6C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9DA66-E7E0-4D2F-91B9-0E720862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CD64D-A8E5-4D2C-BE61-C63E902A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A8835-2629-436E-A67E-488FA0B3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46BA1-5B6C-4C3F-BE3D-509E448E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03841-4412-40CF-85AE-FB681613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51077-4044-429C-8EB0-773E53A1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B49AE-C4FF-4F9D-ABCB-F4CB786F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4FF4E-2D19-4B1C-A85C-E3082F69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9772A-4A08-40AB-BE15-47C675C2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1CFAF-17BE-4308-B287-EF7F51C0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E9BBD-89F3-4431-A7D9-1F1240D4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B6ADB-A950-4C5E-9A4A-3A817241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3432B-EC81-46AF-861C-C52EC0BA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9A3A4-5864-410D-B4E4-FF5AE7B2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BA84D-C6CB-4779-8699-36C8E68C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1B07C-9DEF-459F-BBC9-A1178D9D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DC70C-3360-4E1E-B064-B61CAA0D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E50D2-802E-4CD6-ACF7-5060B6BF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20006-123F-4766-B4D2-05C865DD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FCC7D-C56D-470C-970F-302D2D0F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9FDFA-BA19-4C83-8E22-45F58A09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DE8B7-922D-4921-8C4C-D10F46F7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E7AD8-5FFA-405D-B953-3E5ED5D1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FACCA-4F1D-4D51-BEB1-8F99E1F9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8D250-7F43-4B75-8E12-4435249D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9275E-B4EA-4A38-A2D6-737DA074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2D0AA-CBE6-4FF1-BB20-C8F62BEE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3AB3D-CB4F-404F-8E2E-834EFB1B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86684-9729-45B8-90ED-573CF378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FF603-55EC-40D1-99B6-A89AD59E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FB02A-B51D-49F1-9B3C-99475591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BFF38-A3F2-40B5-9032-CF2E2442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640B3-F5C3-4BA9-8FFB-F9625C86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5F4C6-BFEC-4307-A1DF-E7C800EA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3DC1A-38E2-4AFC-A24D-D614F854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2945D-E52C-4F10-B5B0-27110ADA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04E0C-65DB-4D2C-8388-6452E665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FBA93-0AB3-463B-9C2F-E056959E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C32F4-EBEB-4B2B-9995-6D9C8F84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615D9-1383-48E6-9426-C33FC262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9903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2520" indent="-1681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5943600" y="635652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0" y="635652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04280" y="96480"/>
            <a:ext cx="73645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2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3"/>
          </p:nvPr>
        </p:nvSpPr>
        <p:spPr>
          <a:xfrm>
            <a:off x="3238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4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4FD5-CF5F-4F88-ACAE-2B2E31F9DE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026"/>
          <p:cNvSpPr/>
          <p:nvPr/>
        </p:nvSpPr>
        <p:spPr>
          <a:xfrm>
            <a:off x="1066680" y="2995560"/>
            <a:ext cx="8077320" cy="3862440"/>
          </a:xfrm>
          <a:prstGeom prst="rect">
            <a:avLst/>
          </a:prstGeom>
          <a:gradFill rotWithShape="0">
            <a:gsLst>
              <a:gs pos="0">
                <a:srgbClr val="060833"/>
              </a:gs>
              <a:gs pos="100000">
                <a:srgbClr val="1822c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1027"/>
          <p:cNvSpPr/>
          <p:nvPr/>
        </p:nvSpPr>
        <p:spPr>
          <a:xfrm>
            <a:off x="0" y="2995560"/>
            <a:ext cx="1066680" cy="3862440"/>
          </a:xfrm>
          <a:prstGeom prst="rect">
            <a:avLst/>
          </a:prstGeom>
          <a:gradFill rotWithShape="0">
            <a:gsLst>
              <a:gs pos="0">
                <a:srgbClr val="0305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Group 1031"/>
          <p:cNvGrpSpPr/>
          <p:nvPr/>
        </p:nvGrpSpPr>
        <p:grpSpPr>
          <a:xfrm>
            <a:off x="0" y="1905120"/>
            <a:ext cx="6172200" cy="2438280"/>
            <a:chOff x="0" y="1905120"/>
            <a:chExt cx="6172200" cy="2438280"/>
          </a:xfrm>
        </p:grpSpPr>
        <p:sp>
          <p:nvSpPr>
            <p:cNvPr id="424" name="Oval 1032"/>
            <p:cNvSpPr/>
            <p:nvPr/>
          </p:nvSpPr>
          <p:spPr>
            <a:xfrm>
              <a:off x="789120" y="269388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80b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Oval 1033"/>
            <p:cNvSpPr/>
            <p:nvPr/>
          </p:nvSpPr>
          <p:spPr>
            <a:xfrm>
              <a:off x="942840" y="286056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Rectangle 1034"/>
            <p:cNvSpPr/>
            <p:nvPr/>
          </p:nvSpPr>
          <p:spPr>
            <a:xfrm>
              <a:off x="0" y="299088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fffff"/>
                </a:gs>
                <a:gs pos="100000">
                  <a:srgbClr val="0a0e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Rectangle 1035"/>
            <p:cNvSpPr/>
            <p:nvPr/>
          </p:nvSpPr>
          <p:spPr>
            <a:xfrm>
              <a:off x="1076400" y="190512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fffff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Rectangle 1036"/>
            <p:cNvSpPr/>
            <p:nvPr/>
          </p:nvSpPr>
          <p:spPr>
            <a:xfrm>
              <a:off x="1144440" y="299088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a0e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84D4-9DC3-44DA-B6A0-DD8F9B94AE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A39D-0CA9-41C1-8659-946D28D28FE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97FF-02D7-4398-AC96-B23EDACBAF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oliday 16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0294-0F0E-476F-9365-252CF57DA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1"/>
          </p:nvPr>
        </p:nvSpPr>
        <p:spPr>
          <a:xfrm>
            <a:off x="3238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2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9928-B178-4FEC-B810-AF2C31D3B3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body"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1066680" y="1459080"/>
            <a:ext cx="8077320" cy="5398920"/>
          </a:xfrm>
          <a:prstGeom prst="rect">
            <a:avLst/>
          </a:prstGeom>
          <a:gradFill rotWithShape="0">
            <a:gsLst>
              <a:gs pos="0">
                <a:srgbClr val="060833"/>
              </a:gs>
              <a:gs pos="100000">
                <a:srgbClr val="1822c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1447920"/>
            <a:ext cx="1066680" cy="5410080"/>
          </a:xfrm>
          <a:prstGeom prst="rect">
            <a:avLst/>
          </a:prstGeom>
          <a:gradFill rotWithShape="0">
            <a:gsLst>
              <a:gs pos="0">
                <a:srgbClr val="0305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dt" idx="13"/>
          </p:nvPr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14"/>
          </p:nvPr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5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5EA2-8E48-4164-9BB7-0E3BC8AE43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Group 7"/>
          <p:cNvGrpSpPr/>
          <p:nvPr/>
        </p:nvGrpSpPr>
        <p:grpSpPr>
          <a:xfrm>
            <a:off x="0" y="355680"/>
            <a:ext cx="6172200" cy="2438280"/>
            <a:chOff x="0" y="355680"/>
            <a:chExt cx="6172200" cy="2438280"/>
          </a:xfrm>
        </p:grpSpPr>
        <p:sp>
          <p:nvSpPr>
            <p:cNvPr id="212" name="Oval 8"/>
            <p:cNvSpPr/>
            <p:nvPr/>
          </p:nvSpPr>
          <p:spPr>
            <a:xfrm>
              <a:off x="789120" y="114444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80b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Oval 9"/>
            <p:cNvSpPr/>
            <p:nvPr/>
          </p:nvSpPr>
          <p:spPr>
            <a:xfrm>
              <a:off x="942840" y="131112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0" y="144144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fffff"/>
                </a:gs>
                <a:gs pos="100000">
                  <a:srgbClr val="0a0e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1076400" y="35568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fffff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1144440" y="144144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a0e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"/>
          <p:cNvPicPr/>
          <p:nvPr/>
        </p:nvPicPr>
        <p:blipFill>
          <a:blip r:embed="rId3"/>
          <a:stretch/>
        </p:blipFill>
        <p:spPr>
          <a:xfrm>
            <a:off x="3751200" y="612720"/>
            <a:ext cx="1617840" cy="16178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9"/>
          <p:cNvSpPr/>
          <p:nvPr/>
        </p:nvSpPr>
        <p:spPr>
          <a:xfrm>
            <a:off x="0" y="43401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artment of Homeland Secur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ition Planning Off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693C-2BA3-4D0C-A28B-67D00E883921}" type="datetime2">
              <a:rPr b="0" lang="en-US" sz="2000" spc="-1" strike="noStrike">
                <a:solidFill>
                  <a:srgbClr val="ffffff"/>
                </a:solidFill>
                <a:latin typeface="Arial"/>
              </a:rPr>
              <a:t>Friday, July 31, 2026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9903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2520" indent="-1681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04280" y="96480"/>
            <a:ext cx="73645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AD22-008C-47DA-80E8-DF0A4A01A2A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Holiday 16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81CC-3F5F-40A9-8396-54120E241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41360" y="1897200"/>
            <a:ext cx="8229600" cy="25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80"/>
                </a:solidFill>
                <a:latin typeface="Georgia"/>
              </a:rPr>
              <a:t>THE FEDERAL BUREACRAC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049040" y="4144680"/>
            <a:ext cx="8466120" cy="6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368440" y="351000"/>
            <a:ext cx="446904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ederal Bureaucrac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1103400" y="1388160"/>
            <a:ext cx="2116080" cy="581400"/>
          </a:xfrm>
          <a:prstGeom prst="rect">
            <a:avLst/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si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5862600" y="1413360"/>
            <a:ext cx="1900440" cy="58140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g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220680" y="2579040"/>
            <a:ext cx="1817640" cy="18313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cut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x: OMB, NS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2246400" y="4996440"/>
            <a:ext cx="4653000" cy="7340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ment Corpo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x: Amtrack, Postal Servi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7040880" y="2587320"/>
            <a:ext cx="1910520" cy="14655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epend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ul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is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x: FCC, SE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1185480" y="2014560"/>
            <a:ext cx="981000" cy="59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Line 11"/>
          <p:cNvSpPr/>
          <p:nvPr/>
        </p:nvSpPr>
        <p:spPr>
          <a:xfrm>
            <a:off x="2166840" y="2031840"/>
            <a:ext cx="1203480" cy="830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12"/>
          <p:cNvSpPr/>
          <p:nvPr/>
        </p:nvSpPr>
        <p:spPr>
          <a:xfrm>
            <a:off x="2151000" y="1998720"/>
            <a:ext cx="3419640" cy="84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Line 13"/>
          <p:cNvSpPr/>
          <p:nvPr/>
        </p:nvSpPr>
        <p:spPr>
          <a:xfrm>
            <a:off x="2166840" y="2030400"/>
            <a:ext cx="5689800" cy="560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Line 14"/>
          <p:cNvSpPr/>
          <p:nvPr/>
        </p:nvSpPr>
        <p:spPr>
          <a:xfrm flipH="1">
            <a:off x="3436560" y="2049480"/>
            <a:ext cx="3405240" cy="8128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Line 15"/>
          <p:cNvSpPr/>
          <p:nvPr/>
        </p:nvSpPr>
        <p:spPr>
          <a:xfrm flipH="1">
            <a:off x="5757480" y="2048040"/>
            <a:ext cx="1049400" cy="796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Line 16"/>
          <p:cNvSpPr/>
          <p:nvPr/>
        </p:nvSpPr>
        <p:spPr>
          <a:xfrm>
            <a:off x="6797520" y="2026800"/>
            <a:ext cx="1065600" cy="567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4785840" y="2842560"/>
            <a:ext cx="1915200" cy="15570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epend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cut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x: CIA, NAS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2386440" y="2849760"/>
            <a:ext cx="2034000" cy="10998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bi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art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x: State, Defens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Line 21"/>
          <p:cNvSpPr/>
          <p:nvPr/>
        </p:nvSpPr>
        <p:spPr>
          <a:xfrm>
            <a:off x="2184480" y="1998720"/>
            <a:ext cx="119160" cy="297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Line 22"/>
          <p:cNvSpPr/>
          <p:nvPr/>
        </p:nvSpPr>
        <p:spPr>
          <a:xfrm>
            <a:off x="6824520" y="1998720"/>
            <a:ext cx="15840" cy="29970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WordArt 23"/>
          <p:cNvSpPr txBox="1"/>
          <p:nvPr/>
        </p:nvSpPr>
        <p:spPr>
          <a:xfrm>
            <a:off x="2679840" y="422280"/>
            <a:ext cx="388620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deral Bureaucrac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18680" y="431280"/>
            <a:ext cx="7023240" cy="119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Independent Executive Agencies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68280" y="1638360"/>
            <a:ext cx="8331120" cy="491472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Established by Congress with separate status outside the executive branch 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Given a specific mandate and generally perform a service function, not a regulatory one. 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Some </a:t>
            </a:r>
            <a:r>
              <a:rPr b="1" lang="en-US" sz="2800" spc="-1" strike="noStrike">
                <a:solidFill>
                  <a:srgbClr val="2c1102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 include: Social Security Administration, CIA, NASA, EPA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95000" y="584280"/>
            <a:ext cx="728964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1102"/>
                </a:solidFill>
                <a:latin typeface="Arial"/>
              </a:rPr>
              <a:t>Independent Regulatory Commissions</a:t>
            </a:r>
            <a:endParaRPr b="1" lang="en-US" sz="36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69440" y="1810800"/>
            <a:ext cx="8394840" cy="47516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Exist to </a:t>
            </a:r>
            <a:r>
              <a:rPr b="1" lang="en-US" sz="2800" spc="-1" strike="noStrike">
                <a:solidFill>
                  <a:srgbClr val="2c1102"/>
                </a:solidFill>
                <a:latin typeface="Arial"/>
              </a:rPr>
              <a:t>regulate a specific economic activity or interest</a:t>
            </a: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 such as the </a:t>
            </a:r>
            <a:r>
              <a:rPr b="0" i="1" lang="en-US" sz="2800" spc="-1" strike="noStrike">
                <a:solidFill>
                  <a:srgbClr val="2c1102"/>
                </a:solidFill>
                <a:latin typeface="Arial"/>
              </a:rPr>
              <a:t>Federal Communications Commission</a:t>
            </a: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 (public air waves) or </a:t>
            </a:r>
            <a:r>
              <a:rPr b="0" i="1" lang="en-US" sz="2800" spc="-1" strike="noStrike">
                <a:solidFill>
                  <a:srgbClr val="2c1102"/>
                </a:solidFill>
                <a:latin typeface="Arial"/>
              </a:rPr>
              <a:t>Federal Reserve Board</a:t>
            </a: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 (banking system, money supply)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IRCs operate independently from Congress and the President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Once appointed and seated, members cannot be removed without cause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74360" y="3934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Government Corporations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863640" y="1743120"/>
            <a:ext cx="7881840" cy="46814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Government owned businesses created by Congress 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May or may not be profitable, but serve a public need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1102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: U.S. Postal Service, Amtrak, Tennessee Valley Authority, Corporation for Public Broadcasting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52320" y="2048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merican Typewriter Condensed"/>
              </a:rPr>
              <a:t>Where do federal employee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3" descr=""/>
          <p:cNvPicPr/>
          <p:nvPr/>
        </p:nvPicPr>
        <p:blipFill>
          <a:blip r:embed="rId1"/>
          <a:stretch/>
        </p:blipFill>
        <p:spPr>
          <a:xfrm>
            <a:off x="312840" y="888840"/>
            <a:ext cx="8615160" cy="6129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-360" y="504360"/>
            <a:ext cx="869940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merican Typewriter"/>
              </a:rPr>
              <a:t>Who supervises the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merican Typewriter"/>
              </a:rPr>
              <a:t>federal bureaucracy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Group 5"/>
          <p:cNvGrpSpPr/>
          <p:nvPr/>
        </p:nvGrpSpPr>
        <p:grpSpPr>
          <a:xfrm>
            <a:off x="490680" y="1459080"/>
            <a:ext cx="7770600" cy="4690800"/>
            <a:chOff x="490680" y="1459080"/>
            <a:chExt cx="7770600" cy="4690800"/>
          </a:xfrm>
        </p:grpSpPr>
        <p:pic>
          <p:nvPicPr>
            <p:cNvPr id="555" name="Picture 6" descr="scrap"/>
            <p:cNvPicPr/>
            <p:nvPr/>
          </p:nvPicPr>
          <p:blipFill>
            <a:blip r:embed="rId1"/>
            <a:stretch/>
          </p:blipFill>
          <p:spPr>
            <a:xfrm>
              <a:off x="2845800" y="1755000"/>
              <a:ext cx="1234800" cy="119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Picture 7" descr="scrap"/>
            <p:cNvPicPr/>
            <p:nvPr/>
          </p:nvPicPr>
          <p:blipFill>
            <a:blip r:embed="rId2"/>
            <a:stretch/>
          </p:blipFill>
          <p:spPr>
            <a:xfrm>
              <a:off x="6626880" y="4763880"/>
              <a:ext cx="1249200" cy="120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Picture 8" descr="scrap"/>
            <p:cNvPicPr/>
            <p:nvPr/>
          </p:nvPicPr>
          <p:blipFill>
            <a:blip r:embed="rId3"/>
            <a:stretch/>
          </p:blipFill>
          <p:spPr>
            <a:xfrm>
              <a:off x="6404400" y="1698480"/>
              <a:ext cx="1213560" cy="117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9" descr="scrap"/>
            <p:cNvPicPr/>
            <p:nvPr/>
          </p:nvPicPr>
          <p:blipFill>
            <a:blip r:embed="rId4"/>
            <a:stretch/>
          </p:blipFill>
          <p:spPr>
            <a:xfrm>
              <a:off x="6374520" y="3305160"/>
              <a:ext cx="1269000" cy="12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10" descr="scrap"/>
            <p:cNvPicPr/>
            <p:nvPr/>
          </p:nvPicPr>
          <p:blipFill>
            <a:blip r:embed="rId5"/>
            <a:stretch/>
          </p:blipFill>
          <p:spPr>
            <a:xfrm>
              <a:off x="4523760" y="1708560"/>
              <a:ext cx="1245240" cy="11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1" descr="scrap"/>
            <p:cNvPicPr/>
            <p:nvPr/>
          </p:nvPicPr>
          <p:blipFill>
            <a:blip r:embed="rId6"/>
            <a:stretch/>
          </p:blipFill>
          <p:spPr>
            <a:xfrm>
              <a:off x="3144960" y="3294720"/>
              <a:ext cx="2223000" cy="83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12" descr="scrap"/>
            <p:cNvPicPr/>
            <p:nvPr/>
          </p:nvPicPr>
          <p:blipFill>
            <a:blip r:embed="rId7"/>
            <a:stretch/>
          </p:blipFill>
          <p:spPr>
            <a:xfrm>
              <a:off x="1037160" y="4734720"/>
              <a:ext cx="1096200" cy="115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13" descr="scrap"/>
            <p:cNvPicPr/>
            <p:nvPr/>
          </p:nvPicPr>
          <p:blipFill>
            <a:blip r:embed="rId8"/>
            <a:stretch/>
          </p:blipFill>
          <p:spPr>
            <a:xfrm>
              <a:off x="972360" y="3178800"/>
              <a:ext cx="1366920" cy="13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14" descr=""/>
            <p:cNvPicPr/>
            <p:nvPr/>
          </p:nvPicPr>
          <p:blipFill>
            <a:blip r:embed="rId9"/>
            <a:stretch/>
          </p:blipFill>
          <p:spPr>
            <a:xfrm>
              <a:off x="4642200" y="4543200"/>
              <a:ext cx="1487160" cy="11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15" descr=""/>
            <p:cNvPicPr/>
            <p:nvPr/>
          </p:nvPicPr>
          <p:blipFill>
            <a:blip r:embed="rId10"/>
            <a:stretch/>
          </p:blipFill>
          <p:spPr>
            <a:xfrm>
              <a:off x="977400" y="1744920"/>
              <a:ext cx="1177560" cy="115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Picture 16" descr="scrap"/>
            <p:cNvPicPr/>
            <p:nvPr/>
          </p:nvPicPr>
          <p:blipFill>
            <a:blip r:embed="rId11"/>
            <a:stretch/>
          </p:blipFill>
          <p:spPr>
            <a:xfrm>
              <a:off x="2877480" y="4592520"/>
              <a:ext cx="1217880" cy="11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17"/>
            <p:cNvSpPr/>
            <p:nvPr/>
          </p:nvSpPr>
          <p:spPr>
            <a:xfrm>
              <a:off x="490680" y="1459080"/>
              <a:ext cx="7770600" cy="46908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5000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49360" y="304560"/>
            <a:ext cx="8594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The President Supervises the Bureau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242960" y="1558800"/>
            <a:ext cx="45766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President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9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ppoint &amp; remove                              agency h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9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organize the      bureau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9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ssue executive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9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duce an agency's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3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4" descr="scrap"/>
          <p:cNvPicPr/>
          <p:nvPr/>
        </p:nvPicPr>
        <p:blipFill>
          <a:blip r:embed="rId1"/>
          <a:stretch/>
        </p:blipFill>
        <p:spPr>
          <a:xfrm>
            <a:off x="254160" y="2014560"/>
            <a:ext cx="3973320" cy="265284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5"/>
          <p:cNvSpPr/>
          <p:nvPr/>
        </p:nvSpPr>
        <p:spPr>
          <a:xfrm>
            <a:off x="574560" y="4723560"/>
            <a:ext cx="358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Osaka"/>
              </a:rPr>
              <a:t>President Bush speaks about his budget            priorities for FY 20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5000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29760" y="0"/>
            <a:ext cx="881388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gress Oversees the Bureauc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72640" y="948960"/>
            <a:ext cx="5791320" cy="59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gress c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reate or abolish agencies                                         &amp; depart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ut or reduce fu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vestigate agenc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old committee hear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ass legislation that alters              an agency's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fluence or even fail to confirm presidential appoin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6" descr="scrap"/>
          <p:cNvPicPr/>
          <p:nvPr/>
        </p:nvPicPr>
        <p:blipFill>
          <a:blip r:embed="rId1"/>
          <a:stretch/>
        </p:blipFill>
        <p:spPr>
          <a:xfrm>
            <a:off x="5373720" y="1727280"/>
            <a:ext cx="3367080" cy="271440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7"/>
          <p:cNvSpPr/>
          <p:nvPr/>
        </p:nvSpPr>
        <p:spPr>
          <a:xfrm>
            <a:off x="4764240" y="4541400"/>
            <a:ext cx="4532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Osaka"/>
              </a:rPr>
              <a:t>Former FEMA Chief Michael Brown testifies before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Osaka"/>
              </a:rPr>
              <a:t>House committee investigating Hurricane Katr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5000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29760" y="0"/>
            <a:ext cx="881388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ederal Courts Check the Bureauc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26920" y="1236600"/>
            <a:ext cx="409752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ederal courts c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rough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judicial review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rule on whether the bureaucracy has acted within the law and the U.S.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vide due process for individuals affected by a bureaucratic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4584600" y="5377680"/>
            <a:ext cx="4532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Osaka"/>
              </a:rPr>
              <a:t>Supreme Court of the United Sta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8" name="Picture 10" descr="scrap"/>
          <p:cNvPicPr/>
          <p:nvPr/>
        </p:nvPicPr>
        <p:blipFill>
          <a:blip r:embed="rId1"/>
          <a:stretch/>
        </p:blipFill>
        <p:spPr>
          <a:xfrm>
            <a:off x="4808520" y="1793880"/>
            <a:ext cx="3400560" cy="3390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50880" y="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The Bureaucracy of Piz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Object 5"/>
          <p:cNvGraphicFramePr/>
          <p:nvPr/>
        </p:nvGraphicFramePr>
        <p:xfrm>
          <a:off x="1289160" y="792000"/>
          <a:ext cx="6568920" cy="57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9160" y="792000"/>
                    <a:ext cx="6568920" cy="574056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c1102"/>
                </a:solidFill>
                <a:latin typeface="American Typewriter"/>
              </a:rPr>
              <a:t>bureaucracy</a:t>
            </a:r>
            <a:endParaRPr b="1" lang="en-US" sz="5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65240"/>
            <a:ext cx="432612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2c11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Times New Roman"/>
              </a:rPr>
              <a:t>literally means “rule by desks”</a:t>
            </a:r>
            <a:endParaRPr b="0" lang="en-US" sz="4400" spc="-1" strike="noStrike">
              <a:solidFill>
                <a:srgbClr val="2c110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2c11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Times New Roman"/>
              </a:rPr>
              <a:t>government by clerks</a:t>
            </a:r>
            <a:endParaRPr b="0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pic>
        <p:nvPicPr>
          <p:cNvPr id="474" name="Picture 4" descr=""/>
          <p:cNvPicPr/>
          <p:nvPr/>
        </p:nvPicPr>
        <p:blipFill>
          <a:blip r:embed="rId1"/>
          <a:stretch/>
        </p:blipFill>
        <p:spPr>
          <a:xfrm>
            <a:off x="4997520" y="1887480"/>
            <a:ext cx="3182760" cy="342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9320" y="1648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dcb9"/>
                </a:solidFill>
                <a:latin typeface="American Typewriter"/>
              </a:rPr>
              <a:t>What people think about bureaucracies . . 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987360" y="1549440"/>
            <a:ext cx="5156280" cy="55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’s im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lined to follow rigid or complex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y stifle effectiveness and inno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d tap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6" descr=""/>
          <p:cNvPicPr/>
          <p:nvPr/>
        </p:nvPicPr>
        <p:blipFill>
          <a:blip r:embed="rId1"/>
          <a:stretch/>
        </p:blipFill>
        <p:spPr>
          <a:xfrm>
            <a:off x="106200" y="2631960"/>
            <a:ext cx="381024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60040" y="2568240"/>
            <a:ext cx="73645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The Federal Bureaucra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Picture 3" descr="scrap"/>
          <p:cNvPicPr/>
          <p:nvPr/>
        </p:nvPicPr>
        <p:blipFill>
          <a:blip r:embed="rId1"/>
          <a:stretch/>
        </p:blipFill>
        <p:spPr>
          <a:xfrm>
            <a:off x="2897280" y="1695600"/>
            <a:ext cx="1305000" cy="13046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" descr="scrap"/>
          <p:cNvPicPr/>
          <p:nvPr/>
        </p:nvPicPr>
        <p:blipFill>
          <a:blip r:embed="rId2"/>
          <a:stretch/>
        </p:blipFill>
        <p:spPr>
          <a:xfrm>
            <a:off x="6840360" y="4986360"/>
            <a:ext cx="1320840" cy="13208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5" descr="scrap"/>
          <p:cNvPicPr/>
          <p:nvPr/>
        </p:nvPicPr>
        <p:blipFill>
          <a:blip r:embed="rId3"/>
          <a:stretch/>
        </p:blipFill>
        <p:spPr>
          <a:xfrm>
            <a:off x="6657840" y="16336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6" descr="scrap"/>
          <p:cNvPicPr/>
          <p:nvPr/>
        </p:nvPicPr>
        <p:blipFill>
          <a:blip r:embed="rId4"/>
          <a:stretch/>
        </p:blipFill>
        <p:spPr>
          <a:xfrm>
            <a:off x="6608880" y="3390840"/>
            <a:ext cx="1341360" cy="13842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7" descr="scrap"/>
          <p:cNvPicPr/>
          <p:nvPr/>
        </p:nvPicPr>
        <p:blipFill>
          <a:blip r:embed="rId5"/>
          <a:stretch/>
        </p:blipFill>
        <p:spPr>
          <a:xfrm>
            <a:off x="4670280" y="1644480"/>
            <a:ext cx="1316160" cy="1309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scrap"/>
          <p:cNvPicPr/>
          <p:nvPr/>
        </p:nvPicPr>
        <p:blipFill>
          <a:blip r:embed="rId6"/>
          <a:stretch/>
        </p:blipFill>
        <p:spPr>
          <a:xfrm>
            <a:off x="3178080" y="3379680"/>
            <a:ext cx="2349720" cy="9144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9" descr="scrap"/>
          <p:cNvPicPr/>
          <p:nvPr/>
        </p:nvPicPr>
        <p:blipFill>
          <a:blip r:embed="rId7"/>
          <a:stretch/>
        </p:blipFill>
        <p:spPr>
          <a:xfrm>
            <a:off x="933480" y="4954680"/>
            <a:ext cx="1158840" cy="12618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0" descr="scrap"/>
          <p:cNvPicPr/>
          <p:nvPr/>
        </p:nvPicPr>
        <p:blipFill>
          <a:blip r:embed="rId8"/>
          <a:stretch/>
        </p:blipFill>
        <p:spPr>
          <a:xfrm>
            <a:off x="865080" y="3252960"/>
            <a:ext cx="1444680" cy="14302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1" descr=""/>
          <p:cNvPicPr/>
          <p:nvPr/>
        </p:nvPicPr>
        <p:blipFill>
          <a:blip r:embed="rId9"/>
          <a:stretch/>
        </p:blipFill>
        <p:spPr>
          <a:xfrm>
            <a:off x="4743360" y="4745160"/>
            <a:ext cx="1571760" cy="12967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2" descr=""/>
          <p:cNvPicPr/>
          <p:nvPr/>
        </p:nvPicPr>
        <p:blipFill>
          <a:blip r:embed="rId10"/>
          <a:stretch/>
        </p:blipFill>
        <p:spPr>
          <a:xfrm>
            <a:off x="905040" y="1684440"/>
            <a:ext cx="1244520" cy="12650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3" descr="scrap"/>
          <p:cNvPicPr/>
          <p:nvPr/>
        </p:nvPicPr>
        <p:blipFill>
          <a:blip r:embed="rId11"/>
          <a:stretch/>
        </p:blipFill>
        <p:spPr>
          <a:xfrm>
            <a:off x="2878200" y="4799160"/>
            <a:ext cx="1287360" cy="128736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15"/>
          <p:cNvSpPr/>
          <p:nvPr/>
        </p:nvSpPr>
        <p:spPr>
          <a:xfrm>
            <a:off x="390600" y="1371600"/>
            <a:ext cx="8211960" cy="51307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16"/>
          <p:cNvSpPr/>
          <p:nvPr/>
        </p:nvSpPr>
        <p:spPr>
          <a:xfrm>
            <a:off x="691200" y="484200"/>
            <a:ext cx="77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merican Typewriter"/>
              </a:rPr>
              <a:t>What is the federal bureaucrac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c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83840" y="134640"/>
            <a:ext cx="8418600" cy="117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hat makes up the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ederal Bureaucracy? </a:t>
            </a:r>
            <a:endParaRPr b="1" lang="en-US" sz="48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122120"/>
            <a:ext cx="9042480" cy="5621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million employees; 2.8 million are civilians or “civil serva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ident only appoints 3%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patronage or political appoint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 cabinet level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+ independent agencies with 2,000+ bureaus, divisions, branche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rgest? Dept. of Defense, U.S. Postal Service, Veterans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60040" y="2568240"/>
            <a:ext cx="73645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The Federal Bureaucra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scrap"/>
          <p:cNvPicPr/>
          <p:nvPr/>
        </p:nvPicPr>
        <p:blipFill>
          <a:blip r:embed="rId1"/>
          <a:stretch/>
        </p:blipFill>
        <p:spPr>
          <a:xfrm>
            <a:off x="2897280" y="1695600"/>
            <a:ext cx="1305000" cy="13046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" descr="scrap"/>
          <p:cNvPicPr/>
          <p:nvPr/>
        </p:nvPicPr>
        <p:blipFill>
          <a:blip r:embed="rId2"/>
          <a:stretch/>
        </p:blipFill>
        <p:spPr>
          <a:xfrm>
            <a:off x="6840360" y="4986360"/>
            <a:ext cx="1320840" cy="13208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5" descr="scrap"/>
          <p:cNvPicPr/>
          <p:nvPr/>
        </p:nvPicPr>
        <p:blipFill>
          <a:blip r:embed="rId3"/>
          <a:stretch/>
        </p:blipFill>
        <p:spPr>
          <a:xfrm>
            <a:off x="6657840" y="16336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6" descr="scrap"/>
          <p:cNvPicPr/>
          <p:nvPr/>
        </p:nvPicPr>
        <p:blipFill>
          <a:blip r:embed="rId4"/>
          <a:stretch/>
        </p:blipFill>
        <p:spPr>
          <a:xfrm>
            <a:off x="6608880" y="3390840"/>
            <a:ext cx="1341360" cy="13842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scrap"/>
          <p:cNvPicPr/>
          <p:nvPr/>
        </p:nvPicPr>
        <p:blipFill>
          <a:blip r:embed="rId5"/>
          <a:stretch/>
        </p:blipFill>
        <p:spPr>
          <a:xfrm>
            <a:off x="4670280" y="1644480"/>
            <a:ext cx="1316160" cy="13096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8" descr="scrap"/>
          <p:cNvPicPr/>
          <p:nvPr/>
        </p:nvPicPr>
        <p:blipFill>
          <a:blip r:embed="rId6"/>
          <a:stretch/>
        </p:blipFill>
        <p:spPr>
          <a:xfrm>
            <a:off x="3178080" y="3379680"/>
            <a:ext cx="2349720" cy="9144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9" descr="scrap"/>
          <p:cNvPicPr/>
          <p:nvPr/>
        </p:nvPicPr>
        <p:blipFill>
          <a:blip r:embed="rId7"/>
          <a:stretch/>
        </p:blipFill>
        <p:spPr>
          <a:xfrm>
            <a:off x="933480" y="4954680"/>
            <a:ext cx="1158840" cy="12618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0" descr="scrap"/>
          <p:cNvPicPr/>
          <p:nvPr/>
        </p:nvPicPr>
        <p:blipFill>
          <a:blip r:embed="rId8"/>
          <a:stretch/>
        </p:blipFill>
        <p:spPr>
          <a:xfrm>
            <a:off x="865080" y="3252960"/>
            <a:ext cx="1444680" cy="14302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1" descr=""/>
          <p:cNvPicPr/>
          <p:nvPr/>
        </p:nvPicPr>
        <p:blipFill>
          <a:blip r:embed="rId9"/>
          <a:stretch/>
        </p:blipFill>
        <p:spPr>
          <a:xfrm>
            <a:off x="4743360" y="4745160"/>
            <a:ext cx="1571760" cy="12967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2" descr=""/>
          <p:cNvPicPr/>
          <p:nvPr/>
        </p:nvPicPr>
        <p:blipFill>
          <a:blip r:embed="rId10"/>
          <a:stretch/>
        </p:blipFill>
        <p:spPr>
          <a:xfrm>
            <a:off x="905040" y="1684440"/>
            <a:ext cx="1244520" cy="12650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3" descr="scrap"/>
          <p:cNvPicPr/>
          <p:nvPr/>
        </p:nvPicPr>
        <p:blipFill>
          <a:blip r:embed="rId11"/>
          <a:stretch/>
        </p:blipFill>
        <p:spPr>
          <a:xfrm>
            <a:off x="2878200" y="4799160"/>
            <a:ext cx="1287360" cy="128736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14"/>
          <p:cNvSpPr/>
          <p:nvPr/>
        </p:nvSpPr>
        <p:spPr>
          <a:xfrm>
            <a:off x="390600" y="1371600"/>
            <a:ext cx="8211960" cy="51307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15"/>
          <p:cNvSpPr/>
          <p:nvPr/>
        </p:nvSpPr>
        <p:spPr>
          <a:xfrm>
            <a:off x="486720" y="514080"/>
            <a:ext cx="81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merican Typewriter"/>
              </a:rPr>
              <a:t>What does the federal bureaucracy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29840" y="392040"/>
            <a:ext cx="8713800" cy="117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Georgia"/>
              </a:rPr>
              <a:t>Functions of the Federal Bureaucracy</a:t>
            </a:r>
            <a:endParaRPr b="1" lang="en-US" sz="32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95000" y="1239840"/>
            <a:ext cx="8381880" cy="5105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marL="609480" indent="-609480">
              <a:spcBef>
                <a:spcPts val="700"/>
              </a:spcBef>
              <a:buClr>
                <a:srgbClr val="00008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mplementatio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rry out laws of Congress, executive orders of the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8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dministratio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 routine administrative work; provide services (ex:  SSA sends social security checks to beneficia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8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gulation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 issue rules and regulations that impact the public (ex: EPA sets clean air standa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60040" y="2568240"/>
            <a:ext cx="73645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The Federal Bureaucra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1" name="Group 16"/>
          <p:cNvGrpSpPr/>
          <p:nvPr/>
        </p:nvGrpSpPr>
        <p:grpSpPr>
          <a:xfrm>
            <a:off x="576360" y="1170000"/>
            <a:ext cx="7770600" cy="5064120"/>
            <a:chOff x="576360" y="1170000"/>
            <a:chExt cx="7770600" cy="5064120"/>
          </a:xfrm>
        </p:grpSpPr>
        <p:pic>
          <p:nvPicPr>
            <p:cNvPr id="512" name="Picture 3" descr="scrap"/>
            <p:cNvPicPr/>
            <p:nvPr/>
          </p:nvPicPr>
          <p:blipFill>
            <a:blip r:embed="rId1"/>
            <a:stretch/>
          </p:blipFill>
          <p:spPr>
            <a:xfrm>
              <a:off x="2931480" y="1489680"/>
              <a:ext cx="1234800" cy="12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4" descr="scrap"/>
            <p:cNvPicPr/>
            <p:nvPr/>
          </p:nvPicPr>
          <p:blipFill>
            <a:blip r:embed="rId2"/>
            <a:stretch/>
          </p:blipFill>
          <p:spPr>
            <a:xfrm>
              <a:off x="6712560" y="4737600"/>
              <a:ext cx="124920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5" descr="scrap"/>
            <p:cNvPicPr/>
            <p:nvPr/>
          </p:nvPicPr>
          <p:blipFill>
            <a:blip r:embed="rId3"/>
            <a:stretch/>
          </p:blipFill>
          <p:spPr>
            <a:xfrm>
              <a:off x="6490080" y="1428480"/>
              <a:ext cx="1213560" cy="126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6" descr="scrap"/>
            <p:cNvPicPr/>
            <p:nvPr/>
          </p:nvPicPr>
          <p:blipFill>
            <a:blip r:embed="rId4"/>
            <a:stretch/>
          </p:blipFill>
          <p:spPr>
            <a:xfrm>
              <a:off x="6460200" y="3162960"/>
              <a:ext cx="1269000" cy="136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7" descr="scrap"/>
            <p:cNvPicPr/>
            <p:nvPr/>
          </p:nvPicPr>
          <p:blipFill>
            <a:blip r:embed="rId5"/>
            <a:stretch/>
          </p:blipFill>
          <p:spPr>
            <a:xfrm>
              <a:off x="4609440" y="1439280"/>
              <a:ext cx="1245240" cy="12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8" descr="scrap"/>
            <p:cNvPicPr/>
            <p:nvPr/>
          </p:nvPicPr>
          <p:blipFill>
            <a:blip r:embed="rId6"/>
            <a:stretch/>
          </p:blipFill>
          <p:spPr>
            <a:xfrm>
              <a:off x="3230640" y="3151800"/>
              <a:ext cx="2223000" cy="90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9" descr="scrap"/>
            <p:cNvPicPr/>
            <p:nvPr/>
          </p:nvPicPr>
          <p:blipFill>
            <a:blip r:embed="rId7"/>
            <a:stretch/>
          </p:blipFill>
          <p:spPr>
            <a:xfrm>
              <a:off x="1122840" y="4706280"/>
              <a:ext cx="10962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10" descr="scrap"/>
            <p:cNvPicPr/>
            <p:nvPr/>
          </p:nvPicPr>
          <p:blipFill>
            <a:blip r:embed="rId8"/>
            <a:stretch/>
          </p:blipFill>
          <p:spPr>
            <a:xfrm>
              <a:off x="1058040" y="3026880"/>
              <a:ext cx="1366920" cy="141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11" descr=""/>
            <p:cNvPicPr/>
            <p:nvPr/>
          </p:nvPicPr>
          <p:blipFill>
            <a:blip r:embed="rId9"/>
            <a:stretch/>
          </p:blipFill>
          <p:spPr>
            <a:xfrm>
              <a:off x="4727880" y="4499640"/>
              <a:ext cx="1487160" cy="127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12" descr=""/>
            <p:cNvPicPr/>
            <p:nvPr/>
          </p:nvPicPr>
          <p:blipFill>
            <a:blip r:embed="rId10"/>
            <a:stretch/>
          </p:blipFill>
          <p:spPr>
            <a:xfrm>
              <a:off x="1063080" y="1478520"/>
              <a:ext cx="1177560" cy="124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13" descr="scrap"/>
            <p:cNvPicPr/>
            <p:nvPr/>
          </p:nvPicPr>
          <p:blipFill>
            <a:blip r:embed="rId11"/>
            <a:stretch/>
          </p:blipFill>
          <p:spPr>
            <a:xfrm>
              <a:off x="2963160" y="4552920"/>
              <a:ext cx="1217880" cy="12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Rectangle 14"/>
            <p:cNvSpPr/>
            <p:nvPr/>
          </p:nvSpPr>
          <p:spPr>
            <a:xfrm>
              <a:off x="576360" y="1170000"/>
              <a:ext cx="7770600" cy="506412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4" name="Text Box 15"/>
          <p:cNvSpPr/>
          <p:nvPr/>
        </p:nvSpPr>
        <p:spPr>
          <a:xfrm>
            <a:off x="0" y="50328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merican Typewriter"/>
              </a:rPr>
              <a:t>How is the federal bureaucracy organiz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460ee"/>
                </a:solidFill>
                <a:latin typeface="Arial"/>
              </a:rPr>
              <a:t>The Federal Bureaucracy</a:t>
            </a:r>
            <a:endParaRPr b="1" lang="en-US" sz="48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168560" y="1863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ists of . . 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460ee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binet Department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460ee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dependent Executive Agenc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460ee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dependent Regulatory Commis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460ee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vernment Corpor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4T18:23:59Z</dcterms:created>
  <dc:creator>EOP</dc:creator>
  <dc:description/>
  <dc:language>en-US</dc:language>
  <cp:lastModifiedBy>Amber M. Graeber</cp:lastModifiedBy>
  <dcterms:modified xsi:type="dcterms:W3CDTF">2011-12-19T01:00:54Z</dcterms:modified>
  <cp:revision>106</cp:revision>
  <dc:subject/>
  <dc:title>DHS cha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05493606</vt:r8>
  </property>
  <property fmtid="{D5CDD505-2E9C-101B-9397-08002B2CF9AE}" pid="3" name="_AuthorEmail">
    <vt:lpwstr>amber.graeber@dmps.k12.ia.us</vt:lpwstr>
  </property>
  <property fmtid="{D5CDD505-2E9C-101B-9397-08002B2CF9AE}" pid="4" name="_AuthorEmailDisplayName">
    <vt:lpwstr>Graeber, Amber</vt:lpwstr>
  </property>
  <property fmtid="{D5CDD505-2E9C-101B-9397-08002B2CF9AE}" pid="5" name="_EmailSubject">
    <vt:lpwstr>Email 2 - Government in Action Lectures and Interactive Notes</vt:lpwstr>
  </property>
  <property fmtid="{D5CDD505-2E9C-101B-9397-08002B2CF9AE}" pid="6" name="_NewReviewCycle">
    <vt:lpwstr/>
  </property>
</Properties>
</file>